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6038-6949-44E2-8A39-CBC8510E31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261A-7DA2-45A5-9AE1-35804374217A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699B-89A8-4FDA-A7B6-6D6CD6BFB788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7F0-94B0-431D-8729-664C04CF39D9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7BB-222A-4C78-816F-0147C8D2BFD5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785-B2CE-43B3-8457-4A2053134C97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960-46A8-44FE-9AC8-7690E48088D7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899D-4E00-4839-B0E0-DE2DCA2DD68A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462-C8FE-41D1-B103-6CE38DF1E870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82D9-6BF8-4E93-BA50-8B3E5CFAC260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078B-270D-4891-9830-8068AC5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6BAB-3A06-44B8-9978-9BD7F8FF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37F8-B3CC-428A-B7B4-B61FA7D7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6A40-F0F0-43E5-A182-512A2AF7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AA5-214A-4C55-9CE0-47479F2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EBEC-4EC3-4568-8CD5-D231232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7DE7-9E0E-4C12-A5D7-A090B35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D284-9038-4E8E-B52C-28482FD2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2CB2-F279-406B-9BC0-9B29DAF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06C4-C1F5-4576-854B-4CD8658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9E28-9952-46CF-A118-FCD830A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38CB-8D38-424A-989A-B740FDB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E66-DDBF-4274-9F94-581BE3BA261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904760"/>
            <a:ext cx="813564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75e47"/>
                </a:solidFill>
                <a:latin typeface="Cambria"/>
              </a:rPr>
              <a:t>Pratiques de démocratisation des sciences : proposition d’un cadre d’analyse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39480" y="4571640"/>
            <a:ext cx="78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8d8c"/>
                </a:solidFill>
                <a:latin typeface="Calibri"/>
              </a:rPr>
              <a:t>Mélissa Lieutenant-Gosselin, Université Laval, Communication publiq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8d8c"/>
                </a:solidFill>
                <a:latin typeface="Calibri"/>
              </a:rPr>
              <a:t>10 mai 2011, congrès de l’Acf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ar des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onstructivism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95" name="Connecteur droit avec flèche 10"/>
          <p:cNvCxnSpPr/>
          <p:nvPr/>
        </p:nvCxnSpPr>
        <p:spPr>
          <a:xfrm flipH="1" flipV="1">
            <a:off x="3854160" y="5028480"/>
            <a:ext cx="875520" cy="361080"/>
          </a:xfrm>
          <a:prstGeom prst="straightConnector1">
            <a:avLst/>
          </a:prstGeom>
          <a:ln w="50760">
            <a:solidFill>
              <a:srgbClr val="0070c0"/>
            </a:solidFill>
            <a:prstDash val="sysDot"/>
            <a:miter/>
            <a:tailEnd len="med" type="arrow" w="med"/>
          </a:ln>
        </p:spPr>
      </p:cxnSp>
      <p:cxnSp>
        <p:nvCxnSpPr>
          <p:cNvPr id="96" name="Connecteur droit avec flèche 17"/>
          <p:cNvCxnSpPr/>
          <p:nvPr/>
        </p:nvCxnSpPr>
        <p:spPr>
          <a:xfrm flipH="1" flipV="1">
            <a:off x="7451280" y="3213000"/>
            <a:ext cx="145440" cy="2053080"/>
          </a:xfrm>
          <a:prstGeom prst="straightConnector1">
            <a:avLst/>
          </a:prstGeom>
          <a:ln w="8892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7" name="ZoneTexte 8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2"/>
          <p:cNvSpPr/>
          <p:nvPr/>
        </p:nvSpPr>
        <p:spPr>
          <a:xfrm>
            <a:off x="2268360" y="98100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Grandes orientations de la recherch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Rectangle à coins arrondis 3"/>
          <p:cNvSpPr/>
          <p:nvPr/>
        </p:nvSpPr>
        <p:spPr>
          <a:xfrm>
            <a:off x="2268360" y="22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Questions précises de la recherch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Rectangle à coins arrondis 4"/>
          <p:cNvSpPr/>
          <p:nvPr/>
        </p:nvSpPr>
        <p:spPr>
          <a:xfrm>
            <a:off x="4427640" y="5300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Rectangle à coins arrondis 5"/>
          <p:cNvSpPr/>
          <p:nvPr/>
        </p:nvSpPr>
        <p:spPr>
          <a:xfrm>
            <a:off x="108000" y="5300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Diffus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Rectangle à coins arrondis 6"/>
          <p:cNvSpPr/>
          <p:nvPr/>
        </p:nvSpPr>
        <p:spPr>
          <a:xfrm>
            <a:off x="2268360" y="3716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Production (recherch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Connecteur droit 10"/>
          <p:cNvSpPr/>
          <p:nvPr/>
        </p:nvSpPr>
        <p:spPr>
          <a:xfrm>
            <a:off x="3492360" y="2060640"/>
            <a:ext cx="0" cy="216000"/>
          </a:xfrm>
          <a:prstGeom prst="line">
            <a:avLst/>
          </a:prstGeom>
          <a:ln w="572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Connecteur droit 13"/>
          <p:cNvSpPr/>
          <p:nvPr/>
        </p:nvSpPr>
        <p:spPr>
          <a:xfrm>
            <a:off x="3492360" y="3357720"/>
            <a:ext cx="0" cy="358560"/>
          </a:xfrm>
          <a:prstGeom prst="line">
            <a:avLst/>
          </a:prstGeom>
          <a:ln w="572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05" name="Connecteur en angle 18"/>
          <p:cNvCxnSpPr>
            <a:stCxn id="102" idx="2"/>
            <a:endCxn id="100" idx="0"/>
          </p:cNvCxnSpPr>
          <p:nvPr/>
        </p:nvCxnSpPr>
        <p:spPr>
          <a:xfrm flipH="1" rot="16200000">
            <a:off x="4320360" y="3969000"/>
            <a:ext cx="504000" cy="2160000"/>
          </a:xfrm>
          <a:prstGeom prst="bentConnector3">
            <a:avLst>
              <a:gd name="adj1" fmla="val 49964"/>
            </a:avLst>
          </a:prstGeom>
          <a:ln w="57240">
            <a:solidFill>
              <a:srgbClr val="2f2b20"/>
            </a:solidFill>
            <a:miter/>
          </a:ln>
        </p:spPr>
      </p:cxnSp>
      <p:cxnSp>
        <p:nvCxnSpPr>
          <p:cNvPr id="106" name="Connecteur en angle 21"/>
          <p:cNvCxnSpPr>
            <a:stCxn id="102" idx="2"/>
            <a:endCxn id="101" idx="0"/>
          </p:cNvCxnSpPr>
          <p:nvPr/>
        </p:nvCxnSpPr>
        <p:spPr>
          <a:xfrm rot="5400000">
            <a:off x="2159640" y="3968640"/>
            <a:ext cx="504000" cy="2161080"/>
          </a:xfrm>
          <a:prstGeom prst="bentConnector3">
            <a:avLst>
              <a:gd name="adj1" fmla="val 49964"/>
            </a:avLst>
          </a:prstGeom>
          <a:ln w="57240">
            <a:solidFill>
              <a:srgbClr val="2f2b20"/>
            </a:solidFill>
            <a:miter/>
          </a:ln>
        </p:spPr>
      </p:cxnSp>
      <p:sp>
        <p:nvSpPr>
          <p:cNvPr id="107" name="ZoneTexte 23"/>
          <p:cNvSpPr/>
          <p:nvPr/>
        </p:nvSpPr>
        <p:spPr>
          <a:xfrm>
            <a:off x="174240" y="1890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Étape du processus scientifique visé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ZoneTexte 1"/>
          <p:cNvSpPr/>
          <p:nvPr/>
        </p:nvSpPr>
        <p:spPr>
          <a:xfrm>
            <a:off x="4713840" y="400536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ZoneTexte 19"/>
          <p:cNvSpPr/>
          <p:nvPr/>
        </p:nvSpPr>
        <p:spPr>
          <a:xfrm>
            <a:off x="2565000" y="5364000"/>
            <a:ext cx="168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ars de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ZoneTexte 22"/>
          <p:cNvSpPr/>
          <p:nvPr/>
        </p:nvSpPr>
        <p:spPr>
          <a:xfrm>
            <a:off x="4739400" y="254628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ZoneTexte 24"/>
          <p:cNvSpPr/>
          <p:nvPr/>
        </p:nvSpPr>
        <p:spPr>
          <a:xfrm>
            <a:off x="4800600" y="124920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Je vote pour la scie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ZoneTexte 31"/>
          <p:cNvSpPr/>
          <p:nvPr/>
        </p:nvSpPr>
        <p:spPr>
          <a:xfrm>
            <a:off x="6882120" y="55800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AP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19"/>
          <p:cNvSpPr/>
          <p:nvPr/>
        </p:nvSpPr>
        <p:spPr>
          <a:xfrm>
            <a:off x="463680" y="1268280"/>
            <a:ext cx="24476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cientifiqu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ividus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stitu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Rectangle à coins arrondis 20"/>
          <p:cNvSpPr/>
          <p:nvPr/>
        </p:nvSpPr>
        <p:spPr>
          <a:xfrm>
            <a:off x="53640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ociété civi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ividus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Associ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Rectangle à coins arrondis 22"/>
          <p:cNvSpPr/>
          <p:nvPr/>
        </p:nvSpPr>
        <p:spPr>
          <a:xfrm>
            <a:off x="2911320" y="3176640"/>
            <a:ext cx="24498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Médiateu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Journalistes sc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Rectangle à coins arrondis 24"/>
          <p:cNvSpPr/>
          <p:nvPr/>
        </p:nvSpPr>
        <p:spPr>
          <a:xfrm>
            <a:off x="5361120" y="5157720"/>
            <a:ext cx="244764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Priv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ust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Rectangle à coins arrondis 31"/>
          <p:cNvSpPr/>
          <p:nvPr/>
        </p:nvSpPr>
        <p:spPr>
          <a:xfrm>
            <a:off x="4158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Décideu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Gouvernem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ZoneTexte 8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23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25" name="Connecteur en angle 4"/>
          <p:cNvCxnSpPr>
            <a:stCxn id="120" idx="3"/>
            <a:endCxn id="120" idx="2"/>
          </p:cNvCxnSpPr>
          <p:nvPr/>
        </p:nvCxnSpPr>
        <p:spPr>
          <a:xfrm flipH="1">
            <a:off x="1760040" y="1807920"/>
            <a:ext cx="1224720" cy="541800"/>
          </a:xfrm>
          <a:prstGeom prst="bentConnector4">
            <a:avLst>
              <a:gd name="adj1" fmla="val -41546"/>
              <a:gd name="adj2" fmla="val 185970"/>
            </a:avLst>
          </a:prstGeom>
          <a:ln w="507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26" name="ZoneTexte 10"/>
          <p:cNvSpPr/>
          <p:nvPr/>
        </p:nvSpPr>
        <p:spPr>
          <a:xfrm>
            <a:off x="3588840" y="242100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onstructivism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32" name="Connecteur droit avec flèche 9"/>
          <p:cNvCxnSpPr>
            <a:stCxn id="127" idx="3"/>
            <a:endCxn id="128" idx="1"/>
          </p:cNvCxnSpPr>
          <p:nvPr/>
        </p:nvCxnSpPr>
        <p:spPr>
          <a:xfrm>
            <a:off x="2984040" y="1807920"/>
            <a:ext cx="2451960" cy="1080"/>
          </a:xfrm>
          <a:prstGeom prst="straightConnector1">
            <a:avLst/>
          </a:prstGeom>
          <a:ln w="507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33" name="ZoneTexte 11"/>
          <p:cNvSpPr/>
          <p:nvPr/>
        </p:nvSpPr>
        <p:spPr>
          <a:xfrm>
            <a:off x="3085560" y="1924200"/>
            <a:ext cx="22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logue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de cherche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ZoneTexte 10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40" name="Connecteur droit avec flèche 14"/>
          <p:cNvCxnSpPr/>
          <p:nvPr/>
        </p:nvCxnSpPr>
        <p:spPr>
          <a:xfrm flipH="1">
            <a:off x="2983680" y="1844280"/>
            <a:ext cx="2451960" cy="1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1" name="ZoneTexte 10"/>
          <p:cNvSpPr/>
          <p:nvPr/>
        </p:nvSpPr>
        <p:spPr>
          <a:xfrm>
            <a:off x="2826360" y="1969920"/>
            <a:ext cx="28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Veille citoyenne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(nanotechnologi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3" name="Connecteur droit avec flèche 3"/>
          <p:cNvCxnSpPr/>
          <p:nvPr/>
        </p:nvCxnSpPr>
        <p:spPr>
          <a:xfrm>
            <a:off x="468000" y="1652400"/>
            <a:ext cx="1080" cy="4585320"/>
          </a:xfrm>
          <a:prstGeom prst="straightConnector1">
            <a:avLst/>
          </a:prstGeom>
          <a:ln w="507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Espace réservé du contenu 2"/>
          <p:cNvSpPr/>
          <p:nvPr/>
        </p:nvSpPr>
        <p:spPr>
          <a:xfrm>
            <a:off x="552600" y="1916280"/>
            <a:ext cx="7619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Apolitique (limiter les interventions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Politique (Intervention – maîtrise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180000" y="1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Vision des sciences sous-jacente (idéal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f7f7f"/>
                </a:solidFill>
                <a:latin typeface="Calibri"/>
              </a:rPr>
              <a:t>Positionnement épistémolog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oneTexte 23"/>
          <p:cNvSpPr/>
          <p:nvPr/>
        </p:nvSpPr>
        <p:spPr>
          <a:xfrm>
            <a:off x="214200" y="189000"/>
            <a:ext cx="46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s du promoteur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47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Espace réservé du contenu 2"/>
          <p:cNvSpPr/>
          <p:nvPr/>
        </p:nvSpPr>
        <p:spPr>
          <a:xfrm>
            <a:off x="552600" y="100476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Promotion des sciences (acceptabilité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Culture scientifique (éducation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Effets positifs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↓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Effets négatifs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Réflexion sur l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Dialogue science-sociét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Relativiser l’autorité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Investir démocratiquement l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oneTexte 23"/>
          <p:cNvSpPr/>
          <p:nvPr/>
        </p:nvSpPr>
        <p:spPr>
          <a:xfrm>
            <a:off x="183600" y="189000"/>
            <a:ext cx="79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 = ↑ effets positifs des sciences :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0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1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sciences pour l’émancipation socia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ieux-être glob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éveloppement économ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illeures décisions scientifiques/ politiques/ social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Innovations social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oneTexte 23"/>
          <p:cNvSpPr/>
          <p:nvPr/>
        </p:nvSpPr>
        <p:spPr>
          <a:xfrm>
            <a:off x="169200" y="189000"/>
            <a:ext cx="51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s des participants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3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4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À préciser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4"/>
          <p:cNvSpPr/>
          <p:nvPr/>
        </p:nvSpPr>
        <p:spPr>
          <a:xfrm>
            <a:off x="611280" y="1844640"/>
            <a:ext cx="4465440" cy="863640"/>
          </a:xfrm>
          <a:prstGeom prst="roundRect">
            <a:avLst>
              <a:gd name="adj" fmla="val 16667"/>
            </a:avLst>
          </a:prstGeom>
          <a:solidFill>
            <a:srgbClr val="ebf2f2"/>
          </a:solidFill>
          <a:ln w="255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« démocratisation des sciences » en question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De quoi s’agit-il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Quels objectifs sont poursuivis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Quelles pratiques existent, ou n’existent pas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Y voir plus clair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Se comprend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Vérifier si les objectifs sont atteints, vérifier les eff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Voir ce qui existe et n’existe pas, et pourquo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Flèche vers le bas 3"/>
          <p:cNvSpPr/>
          <p:nvPr/>
        </p:nvSpPr>
        <p:spPr>
          <a:xfrm>
            <a:off x="3851280" y="3357720"/>
            <a:ext cx="720720" cy="100800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oneTexte 23"/>
          <p:cNvSpPr/>
          <p:nvPr/>
        </p:nvSpPr>
        <p:spPr>
          <a:xfrm>
            <a:off x="154800" y="189000"/>
            <a:ext cx="40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Effets des pratiques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6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7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À préciser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" y="0"/>
          <a:ext cx="9140760" cy="6858000"/>
        </p:xfrm>
        <a:graphic>
          <a:graphicData uri="http://schemas.openxmlformats.org/drawingml/2006/table">
            <a:tbl>
              <a:tblPr/>
              <a:tblGrid>
                <a:gridCol w="1544400"/>
                <a:gridCol w="1175040"/>
                <a:gridCol w="1199880"/>
                <a:gridCol w="1285920"/>
                <a:gridCol w="1287720"/>
                <a:gridCol w="1323720"/>
                <a:gridCol w="1324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Étape visé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eur-obje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sion des scienc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moteu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articipant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t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écis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rient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cientif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poli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mo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a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ciété civi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ulture sc.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édiateu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ffets positifs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connaissanc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écideu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i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ffets négatifs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ffus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ivé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éflex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alog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lativise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itise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</a:tbl>
          </a:graphicData>
        </a:graphic>
      </p:graphicFrame>
      <p:sp>
        <p:nvSpPr>
          <p:cNvPr id="159" name="Double flèche verticale 1"/>
          <p:cNvSpPr/>
          <p:nvPr/>
        </p:nvSpPr>
        <p:spPr>
          <a:xfrm>
            <a:off x="4356000" y="1527120"/>
            <a:ext cx="287280" cy="1440000"/>
          </a:xfrm>
          <a:prstGeom prst="upDownArrow">
            <a:avLst>
              <a:gd name="adj1" fmla="val 50000"/>
              <a:gd name="adj2" fmla="val 50125"/>
            </a:avLst>
          </a:prstGeom>
          <a:solidFill>
            <a:srgbClr val="456867"/>
          </a:solidFill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ompléter mon cadre d’analy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Affiner (réflexion, étude de pratiques)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Utilis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e qui existe, ce qui n’existe pa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oncordance objectifs des promoteurs, objectifs des participants, effe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suite des chose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2" name="Flèche vers le bas 3"/>
          <p:cNvSpPr/>
          <p:nvPr/>
        </p:nvSpPr>
        <p:spPr>
          <a:xfrm>
            <a:off x="3825720" y="3098880"/>
            <a:ext cx="700200" cy="10285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lissa.lieutenant-gosselin.1@ulaval.c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suite des chose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iverses pratiques qui s’en réclament ou que j’identifie comme pouvant en être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Bars des scien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Recherche collaborativ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Comité d’éthique de la recherch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Fondation sciences citoyenn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Contructivism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Étude des pratiques de D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iverses pratiques qui s’en réclament ou que j’identifie comme pouvant en êtr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Faire ressortir des dimensions d’analyse (empirique, réflexion, cadres/critiques proposé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adre d’analyse des P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illeure compréhension du phénomè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util pour études subséquen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Étude des pratiques de D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Flèche vers le bas 3"/>
          <p:cNvSpPr/>
          <p:nvPr/>
        </p:nvSpPr>
        <p:spPr>
          <a:xfrm>
            <a:off x="3851280" y="4127400"/>
            <a:ext cx="701640" cy="10303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155736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ype de pratique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Étape du processus scientifique visée par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Relation entre l’acteur (instigateur) et l’objet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Vision des sciences sous-jacen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bjectifs des promoteurs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bjectifs des participants à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Effets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Dimensions du cadre d’analyse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ZoneTexte 23"/>
          <p:cNvSpPr/>
          <p:nvPr/>
        </p:nvSpPr>
        <p:spPr>
          <a:xfrm>
            <a:off x="617040" y="6206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1663560" y="29574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Quo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Com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ZoneTexte 7"/>
          <p:cNvSpPr/>
          <p:nvPr/>
        </p:nvSpPr>
        <p:spPr>
          <a:xfrm>
            <a:off x="5650560" y="3327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Fai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2021040" y="58482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Di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4903560" y="5848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tatut (la valeu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76" name="Connecteur droit avec flèche 10"/>
          <p:cNvCxnSpPr/>
          <p:nvPr/>
        </p:nvCxnSpPr>
        <p:spPr>
          <a:xfrm flipV="1">
            <a:off x="3890520" y="2636640"/>
            <a:ext cx="1258200" cy="28800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" name="Connecteur droit avec flèche 17"/>
          <p:cNvCxnSpPr/>
          <p:nvPr/>
        </p:nvCxnSpPr>
        <p:spPr>
          <a:xfrm flipH="1" flipV="1">
            <a:off x="3707640" y="3212280"/>
            <a:ext cx="1151640" cy="158508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ZoneTexte 9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83" name="Connecteur droit avec flèche 10"/>
          <p:cNvCxnSpPr/>
          <p:nvPr/>
        </p:nvCxnSpPr>
        <p:spPr>
          <a:xfrm flipH="1" flipV="1">
            <a:off x="3276000" y="2491920"/>
            <a:ext cx="1656360" cy="14544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84" name="Connecteur droit avec flèche 17"/>
          <p:cNvCxnSpPr/>
          <p:nvPr/>
        </p:nvCxnSpPr>
        <p:spPr>
          <a:xfrm flipV="1">
            <a:off x="6084360" y="3499920"/>
            <a:ext cx="1080" cy="136944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85" name="ZoneTexte 8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ar des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5:18:01Z</dcterms:created>
  <dc:creator>Mélissa</dc:creator>
  <dc:description/>
  <dc:language>en-US</dc:language>
  <cp:lastModifiedBy>Mélissa</cp:lastModifiedBy>
  <dcterms:modified xsi:type="dcterms:W3CDTF">2011-05-24T15:43:22Z</dcterms:modified>
  <cp:revision>149</cp:revision>
  <dc:subject/>
  <dc:title>Pratiques de démocratie des sciences : une typologie</dc:title>
</cp:coreProperties>
</file>